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6AF2-23DC-4FA5-B93A-2BD5EE9E0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D3B-7CEA-4CFB-A27A-AB39EA404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535C-9019-43CE-AA70-1AE710EC5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272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936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644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272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936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8E9E-33A9-4139-ABAF-C0358FF7A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B5A5-7B98-42E9-82BA-8A906E79FF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BF40-B2E2-499A-A6E6-E2AD40578F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BEDC-C7BE-446D-81FA-7EB8F7844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E2CD-96C5-4DAA-AED2-EEF93F5B0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A4A3-1F81-45AA-A96E-E3D2F7D848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76440" y="609120"/>
            <a:ext cx="859608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296B-5741-481F-A9EF-4B8F1F5AD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A4A0-6C5F-4282-AE45-CAB844969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AF67-46BF-4659-96D7-5556BA3A7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C553-60CF-44B8-A925-A2AA9E3F81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4355-9F8D-4E0C-928F-7CC4C9E04C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5747-A670-4F3C-A59B-4AA5726E8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AE96-4A10-4A3F-9A57-736C0B3F8D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272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8936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7644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272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8936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94C3-F88D-474B-B7DE-A7B7E0BA0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6AB4-205F-4B83-A581-27DA7B98F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BD87-0ABB-45B1-A82F-04BE57467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0C42-96F7-4CDE-B740-533B752BC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6440" y="609120"/>
            <a:ext cx="859608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E55B-6BD7-4DD4-A601-ADBD5F9B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9A6E-BFB3-402C-8056-AC963FC7C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379E-BB5D-4076-8C76-78B16637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A4A6-8131-4A21-A86C-AFEA08832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6600" y="688680"/>
            <a:ext cx="7765920" cy="33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6600" y="4049280"/>
            <a:ext cx="7765920" cy="280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1" marL="380880" algn="r">
              <a:spcBef>
                <a:spcPts val="1001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2" marL="838080" algn="r">
              <a:spcBef>
                <a:spcPts val="1001"/>
              </a:spcBef>
              <a:buClr>
                <a:srgbClr val="878787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3" marL="1295280" algn="r">
              <a:spcBef>
                <a:spcPts val="1001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4" marL="1752480" algn="r">
              <a:spcBef>
                <a:spcPts val="1001"/>
              </a:spcBef>
              <a:buClr>
                <a:srgbClr val="878787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5" marL="1752480" algn="r">
              <a:spcBef>
                <a:spcPts val="100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6" marL="1752480" algn="r">
              <a:spcBef>
                <a:spcPts val="100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050400" y="6189480"/>
            <a:ext cx="234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9C02-3F3A-4B44-8108-5AD827A0C543}" type="slidenum">
              <a: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1" marL="66672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10666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3" marL="15238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4" marL="19810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5" marL="198108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6" marL="198108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9050400" y="6189480"/>
            <a:ext cx="234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8B2-B504-4277-8B85-305AAE916CA0}" type="slidenum">
              <a: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iw.pl/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1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7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8931240" y="3048120"/>
              <a:ext cx="32608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93330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10371240" y="3589200"/>
              <a:ext cx="18158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 rot="10800000">
              <a:off x="0" y="0"/>
              <a:ext cx="841320" cy="566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1525320"/>
            <a:ext cx="9410400" cy="3251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Konsultacje społeczn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dotyczące 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Lokalnej Strategii Rozwoju 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na lata 2014-2020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919080" y="333360"/>
            <a:ext cx="1197000" cy="73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2"/>
          <a:stretch/>
        </p:blipFill>
        <p:spPr>
          <a:xfrm>
            <a:off x="6218280" y="407880"/>
            <a:ext cx="579240" cy="58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3"/>
          <a:stretch/>
        </p:blipFill>
        <p:spPr>
          <a:xfrm>
            <a:off x="8234280" y="333360"/>
            <a:ext cx="1200240" cy="800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915840" y="5940360"/>
            <a:ext cx="8813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7818"/>
                </a:solidFill>
                <a:latin typeface="Lucida Grande"/>
                <a:ea typeface="Lucida Grande"/>
              </a:rPr>
              <a:t>	</a:t>
            </a:r>
            <a:r>
              <a:rPr b="0" lang="en-US" sz="1300" spc="-1" strike="noStrike">
                <a:solidFill>
                  <a:srgbClr val="3f7818"/>
                </a:solidFill>
                <a:latin typeface="Arial Bold"/>
                <a:ea typeface="Arial Bold"/>
              </a:rPr>
              <a:t>Spotkania konsultacyjne współfinansowane są przez „Europejski Fundusz Rolny na rzecz Rozwoju Obszarów Wiejskich, Europa inwestująca w obszary wiejskie” w ramach działania </a:t>
            </a:r>
            <a:r>
              <a:rPr b="0" lang="en-US" sz="1300" spc="-1" strike="noStrike">
                <a:solidFill>
                  <a:srgbClr val="3f7818"/>
                </a:solidFill>
                <a:latin typeface="Arial Bold Italic"/>
                <a:ea typeface="Arial Bold Italic"/>
              </a:rPr>
              <a:t>19 Wsparcie dla Rozwoju Lokalnego w ramach inicjatywy LEADE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Picture 17" descr=""/>
          <p:cNvPicPr/>
          <p:nvPr/>
        </p:nvPicPr>
        <p:blipFill>
          <a:blip r:embed="rId4"/>
          <a:stretch/>
        </p:blipFill>
        <p:spPr>
          <a:xfrm>
            <a:off x="3162240" y="76320"/>
            <a:ext cx="16257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05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3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1104840" y="1562040"/>
            <a:ext cx="79884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1 (PRZEDSIĘBIORCZOŚĆ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liczba stworzonych miejsc pracy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związek z branżą turystyczną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działalność oparta na lokalnych produktach rolnych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szczegółowość analizy rynku i konkurencji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odprowadzanie podatków na obszarze LSR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nie zaleganie z opłatami ZUS i US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innowacyjność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18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0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155600" y="1701720"/>
            <a:ext cx="7886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2 (INFRASTRUKTURA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zeprowadzenie konsultacji społecznych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korzystanie lokalnych zasobów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ojekty partnerskie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zagospodarowanie linii brzegowej rzeki i/lub jeziora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niska kwota pomoc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korzystanie oznakowania spójnego z wzorami LGD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31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2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3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143000" y="1486080"/>
            <a:ext cx="859788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3 (AKTYWIZACJA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niska kwota pomoc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ższy wkład własn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artnerstwa międzysektorowe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obszar realizacji działań</a:t>
            </a:r>
            <a:r>
              <a:rPr b="0" lang="pl-PL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– liczba miejscowości i gmin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pl-PL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realizacja więcej niż jednego wydarzenia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uwzględniono uczestników z grup defaworyzowanych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zekazywanie materiałów wytworzonych do biura LGD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tworzenie materiałów promocyjnych wielojęzycznych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469800" y="203040"/>
            <a:ext cx="2095560" cy="20196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2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45" name="Line 2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Line 3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AutoShape 11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6440" y="254160"/>
            <a:ext cx="8596080" cy="190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KONTAK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81400" y="2222640"/>
            <a:ext cx="4031640" cy="24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ul. Drawska 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73-150 Łobe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Telef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Biuro -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91 57 37 32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Dyrektor Biura –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605 270 53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Koordynator Projektów –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691 060 48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www.lobez.or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4901760" y="1854360"/>
            <a:ext cx="47329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BIURO CENTRUM INICJATYW WIEJSKICH CZYNNE</a:t>
            </a:r>
            <a:br>
              <a:rPr sz="1400"/>
            </a:b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OD PONIEDZIAŁKU DO PIĄTKU </a:t>
            </a:r>
            <a:br>
              <a:rPr sz="1400"/>
            </a:b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 GODZINACH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Dyrektor biura Bożena Zareck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Poniedziałek – 7:00 – 15:0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torek – 7:00 – 15:0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Środa – 7:00-15: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Koordynator Projektów Ewelina Turkowska-Płowczyk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torek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Środa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Czwartek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Piątek – 8:30 – 14:3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5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0240" y="269676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0c226"/>
                </a:solidFill>
                <a:latin typeface="Trebuchet MS"/>
              </a:rPr>
              <a:t>Dziękuję za uwagę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1"/>
          <a:stretch/>
        </p:blipFill>
        <p:spPr>
          <a:xfrm>
            <a:off x="919080" y="333360"/>
            <a:ext cx="1197000" cy="730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2"/>
          <a:stretch/>
        </p:blipFill>
        <p:spPr>
          <a:xfrm>
            <a:off x="6218280" y="407880"/>
            <a:ext cx="579240" cy="581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/>
          <p:cNvPicPr/>
          <p:nvPr/>
        </p:nvPicPr>
        <p:blipFill>
          <a:blip r:embed="rId3"/>
          <a:stretch/>
        </p:blipFill>
        <p:spPr>
          <a:xfrm>
            <a:off x="8234280" y="33336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"/>
          <p:cNvPicPr/>
          <p:nvPr/>
        </p:nvPicPr>
        <p:blipFill>
          <a:blip r:embed="rId4"/>
          <a:stretch/>
        </p:blipFill>
        <p:spPr>
          <a:xfrm>
            <a:off x="3162240" y="76320"/>
            <a:ext cx="1625760" cy="15652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7"/>
          <p:cNvSpPr/>
          <p:nvPr/>
        </p:nvSpPr>
        <p:spPr>
          <a:xfrm>
            <a:off x="915840" y="5940360"/>
            <a:ext cx="8813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7818"/>
                </a:solidFill>
                <a:latin typeface="Lucida Grande"/>
                <a:ea typeface="Lucida Grande"/>
              </a:rPr>
              <a:t>	</a:t>
            </a:r>
            <a:r>
              <a:rPr b="0" lang="en-US" sz="1300" spc="-1" strike="noStrike">
                <a:solidFill>
                  <a:srgbClr val="3f7818"/>
                </a:solidFill>
                <a:latin typeface="Arial Bold"/>
                <a:ea typeface="Arial Bold"/>
              </a:rPr>
              <a:t>Spotkania konsultacyjne współfinansowane są przez „Europejski Fundusz Rolny na rzecz Rozwoju Obszarów Wiejskich, Europa inwestująca w obszary wiejskie” w ramach działania </a:t>
            </a:r>
            <a:r>
              <a:rPr b="0" lang="en-US" sz="1300" spc="-1" strike="noStrike">
                <a:solidFill>
                  <a:srgbClr val="3f7818"/>
                </a:solidFill>
                <a:latin typeface="Arial Bold Italic"/>
                <a:ea typeface="Arial Bold Italic"/>
              </a:rPr>
              <a:t>19 Wsparcie dla Rozwoju Lokalnego w ramach inicjatywy LEADE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96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6440" y="280800"/>
            <a:ext cx="8596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HARMONOGRAM SPOTKAN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440" y="1982880"/>
            <a:ext cx="8596080" cy="48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Analiza SWOT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Podział środków 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budżetowych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P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rojekt celów i przedsięwzięć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w ramach LSR 2014-2020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Projekt kryteriów 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wyboru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Uwagi, opinie, komentarze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199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3200" y="1998720"/>
            <a:ext cx="9004320" cy="48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1. Korzystne warunki komunikacyjne, 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2. Duży potencjał inwestycyjny obszaru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3. Liczne szlaki i ścieżki o zróżnicowanym charakterze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4. Rozbudowana sieć rzek i jezior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5. Liczne organizacje pozarządowe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6. Wysoki poziom lesistości.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927720" y="1317600"/>
            <a:ext cx="2596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ILN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23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674640" y="0"/>
            <a:ext cx="862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936360" y="1317600"/>
            <a:ext cx="26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ŁAB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93840" y="1866960"/>
            <a:ext cx="91184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Dynamiczny wzrost liczby mieszkańców w wieku poprodukcyjnym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Niewystarczająca oferta form spędzania czasu wolnego dla mieszkańc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Depopulacja obszaru w wyniku migracji i ujemnego przyrostu naturalneg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Braki w ofercie społeczno-kulturalnej, nierównomierne rozłożenie infrastruktury kulturalnej, niewystarczająca liczba świetlic wiejskich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Niski poziom przedsiębiorczości lokal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Rosnące bezroboci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Brak wypracowanej i popularyzowanej marki region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Zły stan infrastruktury komunal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9. Niewielki potencjał przyrodniczy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37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674640" y="0"/>
            <a:ext cx="862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936360" y="1317600"/>
            <a:ext cx="26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ŁAB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57200" y="1879560"/>
            <a:ext cx="117475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0. Niewystarczająca infrastruktura turystyczna (miejsca noclegowe, mała gastronomia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parkingi, atrakcje, kąpieliska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1. Brak promocji i informacji na temat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2. Wysoki odsetek osób korzystających  z pomocy społecz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3. Znaczny udział bezrobotnych długotrwale pozostających bez prac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4. Występujące obszary po dawnych PGR z dużym nasileniem problemów społeczn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5. Słabo rozwinięta komunikacja publiczn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6. Niewystarczająco rozbudowana infrastruktura internetow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7. Słabo rozwinięta sieć kanalizacji na obszarach wiejski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8. Niewystarczająca liczba chodnik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9. Niski poziom aktywności społecznej i kulturalnej, w szczególności wśród młodzież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1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980280" y="1317600"/>
            <a:ext cx="145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ZANS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82760" y="1803240"/>
            <a:ext cx="106423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Wzrost zainteresowania inwestorów krajowych i zagraniczn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Wzrost aktywności społecznej i ekonomicznej mieszkańc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Plany rozwoju i modernizacji infrastruktury m.in. komunikacyjnej obejmujące obszar LGD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Zwiększenie potencjału administracyjnego i finansowego lokalnych organizacji pozarząd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Promocja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Rozbudowa sieci ścieżek rower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Rozwój usług dla senior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Rozwój turystyki na obszarz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9. Rozbudowa bazy noclegowej i gastronomicz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0. Aktywizacja społeczności poprzez działania międzypokoleniow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65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7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9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931680" y="11685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91e"/>
                </a:solidFill>
                <a:latin typeface="Trebuchet MS"/>
                <a:ea typeface="Trebuchet MS"/>
              </a:rPr>
              <a:t>ZAGROŻENIA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622440" y="1714680"/>
            <a:ext cx="9524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Niekorzystne trendy demograficzne - „starzenie się” społeczeństw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Niewystarczające środki finansowe na realizację ważnych inicjatyw rozwoj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Opuszczanie terenu LGD przez osoby młod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Niestabilność makroekonomiczn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Zanieczyszczenie środowiska naturalneg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Zanieczyszczenie powietrza w wyniku ogrzewania domów i mieszkań piecami węglowymi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Skomplikowane przepisy, biurokracj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Brak rozwojowych programów władzy centralnej skierowanych na obszary peryferyjne kraj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0480" y="280800"/>
            <a:ext cx="8596440" cy="1879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Dostępne środki finansow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8600" y="952560"/>
          <a:ext cx="10872720" cy="5924520"/>
        </p:xfrm>
        <a:graphic>
          <a:graphicData uri="http://schemas.openxmlformats.org/drawingml/2006/table">
            <a:tbl>
              <a:tblPr/>
              <a:tblGrid>
                <a:gridCol w="384120"/>
                <a:gridCol w="1668600"/>
                <a:gridCol w="2979720"/>
                <a:gridCol w="2397240"/>
                <a:gridCol w="2131920"/>
                <a:gridCol w="1311120"/>
              </a:tblGrid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Cel ogó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Cel szczegóło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Przedsięwzię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Budż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85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Wsparcie rozwoju gospodarczego i konkurencyjności obszaru LSR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Rozwój przedsiębiorczości na obszarze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Tworzenie nowych fi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0 tys PLN na beneficj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2,5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Nowe miejsca pracy w firmach istniejąc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Wzmocnienie atrakcyjności obszaru LSR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Rozbudowa i poprawa standardu infrastruktury turystycznej, rekreacyjnej i kulturalnej oraz poprawa estetyki przestrzeni publicznej na obszarze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Inwestycje infrastrukturalne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procedura konkurs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1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</a:tr>
              <a:tr h="90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Zagospodarowanie przestrzeni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Aktywizacja mieszkańców obszaru LSR i wspieranie włączenia społecznego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ktywizacja i integracja mieszkańców obszaru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ziałania aktywizujące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Promocja zasobów lokalnych obszaru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cja i informacj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5568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RAZE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5 ml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92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3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4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5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1308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3440" y="1308240"/>
            <a:ext cx="10541160" cy="6184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Odrębne dla każdego przedsięwzięcia.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Podkreślające zgodność projektów z problemami wykrytymi w diagnozie.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max. 100 pkt, wymagane minimum: 60 pkt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Preferencje horyzontalne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ojekty pozytywnie wpływające na środowisko naturalne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wkład własny beneficjenta/niska kwota pomocy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ojekty stworzone z myślą o grupach defaworyzowanych określonych w LSR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eferencje dla mieszkańców i podmiotów pochodzących z obszaru LSR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udział w szkoleniu/doradztwie organizowanym przez LGD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wykorzystanie lub promowanie lokalnych zasobów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 mow</dc:creator>
  <dc:description/>
  <dc:language>en-US</dc:language>
  <cp:lastModifiedBy>user</cp:lastModifiedBy>
  <dcterms:modified xsi:type="dcterms:W3CDTF">2015-12-01T11:54:05Z</dcterms:modified>
  <cp:revision>5</cp:revision>
  <dc:subject/>
  <dc:title>Warunki realizacji LSR ze środków PO Rybactwo i Morze</dc:title>
</cp:coreProperties>
</file>